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3FC5-45C6-4B20-819D-A202B2D1F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9E7-C10D-4617-BC00-205F0125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7B0-8AAC-48FE-BE47-5DA4383B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83C3-7DE4-4CB6-989D-7144588C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EABCA-92D2-471F-9DC9-9928CEE3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B7291-0CAA-4FB1-9B90-AAE95275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50FC3-CE52-4A11-824B-5F5F819F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C029-4B8F-431E-982E-E6B8B289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8FBC4-369B-490D-B9CC-E1F2F225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177B4-7110-4F86-AB55-CFF2A6CAB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836C2-E19A-4136-B219-03D01EAB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E1E-91F9-4DD7-AFFD-9634E59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F634-715E-4A66-8550-E64235DF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25A2-3C9F-4D94-8FDF-A52805CF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E15F8-D690-47BF-BE2F-B601CFB2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B2E3-571D-41F1-A070-6B75CCD12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BAD5-C4FA-4889-BE33-DED66AAE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BF59-17F2-477D-97DE-263541BB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DF31-BC52-402E-9D35-1EF7A8F6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FD1D-D6A8-45D0-93B2-721AFB7F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CD08-8797-4F26-81D9-EDDDABCC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69C3-D36B-4668-B864-DF425A1C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55F8-3D29-4787-AB8E-B7712E5F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1514-202B-4A25-8157-CFFCF758F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D146-E439-478C-9159-8E15603867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FEE38-9A85-48EF-932D-1ECCCFC88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13.xml"/><Relationship Id="rId3" Type="http://schemas.openxmlformats.org/officeDocument/2006/relationships/slide" Target="slide23.xml"/><Relationship Id="rId4" Type="http://schemas.openxmlformats.org/officeDocument/2006/relationships/slide" Target="slide5.xml"/><Relationship Id="rId5" Type="http://schemas.openxmlformats.org/officeDocument/2006/relationships/slide" Target="slide15.xml"/><Relationship Id="rId6" Type="http://schemas.openxmlformats.org/officeDocument/2006/relationships/slide" Target="slide7.xml"/><Relationship Id="rId7" Type="http://schemas.openxmlformats.org/officeDocument/2006/relationships/slide" Target="slide17.xml"/><Relationship Id="rId8" Type="http://schemas.openxmlformats.org/officeDocument/2006/relationships/slide" Target="slide9.xml"/><Relationship Id="rId9" Type="http://schemas.openxmlformats.org/officeDocument/2006/relationships/slide" Target="slide19.xml"/><Relationship Id="rId10" Type="http://schemas.openxmlformats.org/officeDocument/2006/relationships/slide" Target="slide11.xml"/><Relationship Id="rId11" Type="http://schemas.openxmlformats.org/officeDocument/2006/relationships/slide" Target="slide21.xml"/><Relationship Id="rId1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2.xml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34.xml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6.xml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38.xml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0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Français Revision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Jeopardy 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Peig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Rougé à Lèv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 Dentifr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believ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 think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most, ne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crois q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pense que/ Je trouve qu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…. Presque jama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gate Con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e in the Il/Elle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00100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n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î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the Passé Composé form of Savo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077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’ai s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gate Croire in the Vous 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6491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oy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jugate Ouvri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077320" y="649116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0" y="0"/>
          <a:ext cx="9144000" cy="667548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  <a:gridCol w="1828800"/>
                <a:gridCol w="1828800"/>
                <a:gridCol w="1828800"/>
              </a:tblGrid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ocab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erb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nouns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sé Compos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lture ?’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8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99ff66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- Ouv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- Ouv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/Elle- Ouv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us- Ouv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us- Ouvr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ls/Elles- Ouv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rite 10 verbs that tak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Ê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001000" y="6491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er, Venir, Entrer, Sortir, Montrer, Descendre, Arriver, Partir, Retourner, Re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say- I have brown hai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6491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’ai les cheveux bru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 vas sounvent à la plag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affirmativel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6491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i, j’y vais souv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does the pronom en replace in sentan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924680" y="649116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, de la, de l’, des, de, d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say -I have neighbors  whom I often invi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01000" y="6491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066680" y="2286000"/>
            <a:ext cx="6934320" cy="24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Les Jambes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Un Doigt </a:t>
            </a:r>
            <a:br>
              <a:rPr sz="3200"/>
            </a:br>
            <a:r>
              <a:rPr b="0" lang="en-US" sz="3200" spc="-1" strike="noStrike">
                <a:solidFill>
                  <a:srgbClr val="ffffb7"/>
                </a:solidFill>
                <a:latin typeface="Arial"/>
              </a:rPr>
              <a:t>Le Ven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48520" y="6491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’ai des voisins que j’invite souven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’ordre de Prono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00100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 (m’)   La     Lui     Y   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 (t’)      Le     Le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us       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u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verb do the reflexive verbs all take in the passé composé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6491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êt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u t’es arrêtée dans un caf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affirmativ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077320" y="649116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i, je me suis arrêtée dans un café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(se coucher) Je _____ à minui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077320" y="649116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e suis couché(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say- Where did you live befor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077320" y="64911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ng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m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420040" y="6491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ù est-ce que tu habitais avan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do you say – I often used to go fish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077320" y="649116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’allais souvent à la pêch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sport favori des jeunes français c’est 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6491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footb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remier étage fançais correspond au _________________ América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491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uxième étage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majorité des Français habitent dans des __________________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ison Individuel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devise du Québec est ___________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1000" y="64911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80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ef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 Rom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Revue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e histo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48520" y="64911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 me souvien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Louis the 1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all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6491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Roi Solei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lat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gaz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ory, His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l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ic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il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urta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001000" y="6491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Gren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 Plafo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s Rideaux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52720" y="649116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Ho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ranslat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stic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thpas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001000" y="649116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ff66"/>
                </a:solidFill>
                <a:uFillTx/>
                <a:latin typeface="Arial"/>
                <a:hlinkClick r:id="rId1" action="ppaction://hlinksldjump"/>
              </a:rPr>
              <a:t>Ré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20:25:40Z</dcterms:created>
  <dc:creator>Technology</dc:creator>
  <dc:description/>
  <dc:language>en-US</dc:language>
  <cp:lastModifiedBy>Technology</cp:lastModifiedBy>
  <dcterms:modified xsi:type="dcterms:W3CDTF">2008-05-29T16:27:31Z</dcterms:modified>
  <cp:revision>7</cp:revision>
  <dc:subject/>
  <dc:title>Français Revision Jeopardy </dc:title>
</cp:coreProperties>
</file>